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9CE0-DD8D-44FC-A2AC-404B71433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CF67-515D-4747-AB00-6FB17ED2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15B0-3ADD-486E-AB14-6134EEA87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3B1E-D1D1-4B1E-AC7A-CB21BFF5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9126-100C-4371-A87C-77A61027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CE7F-A9DC-428E-AC1D-51EEBAB0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294F-B37B-4896-8970-8A09E92E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2AB9-F27D-41E3-9790-8EAFB7EF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D1C4-4204-4627-A398-F7D703C2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896B-B631-4711-9A50-58DE1A56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5AA9-6ECF-43D0-A437-99DF5684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E45C-1049-42CE-9593-BE1C4A0B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44A1-B45B-4037-BC37-2D688456F7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54536051&amp;tn=baiduimagedetail&amp;word=&#35805;&#31570;&amp;in=18" TargetMode="External"/><Relationship Id="rId3" Type="http://schemas.openxmlformats.org/officeDocument/2006/relationships/hyperlink" Target="http://image.baidu.com/i?ct=503316480&amp;z=174146501&amp;tn=baiduimagedetail&amp;word=&#35805;&#31570;&amp;in=30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95640" y="3573360"/>
            <a:ext cx="4752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Period 2 (3a-3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1557360"/>
            <a:ext cx="71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it 8  When is your birth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1050840" y="706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1116000" y="3068640"/>
            <a:ext cx="712944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Black"/>
              </a:rPr>
              <a:t>3c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 out your classmates’ birthdays and ages. Line up from the youngest to the old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826920" y="126828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cc"/>
                </a:solidFill>
                <a:latin typeface="Times New Roman"/>
              </a:rPr>
              <a:t>Task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oup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9640" y="981000"/>
          <a:ext cx="8033040" cy="5170320"/>
        </p:xfrm>
        <a:graphic>
          <a:graphicData uri="http://schemas.openxmlformats.org/drawingml/2006/table">
            <a:tbl>
              <a:tblPr/>
              <a:tblGrid>
                <a:gridCol w="1511280"/>
                <a:gridCol w="2376720"/>
                <a:gridCol w="1152360"/>
                <a:gridCol w="1658880"/>
                <a:gridCol w="13338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ng / O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rth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The young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he old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The young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he old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The young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he old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The young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he old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5781"/>
          <p:cNvSpPr/>
          <p:nvPr/>
        </p:nvSpPr>
        <p:spPr>
          <a:xfrm>
            <a:off x="1014840" y="475560"/>
            <a:ext cx="33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00ff"/>
                </a:solidFill>
                <a:latin typeface="Times New Roman"/>
              </a:rPr>
              <a:t>Task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个人档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5782"/>
          <p:cNvSpPr/>
          <p:nvPr/>
        </p:nvSpPr>
        <p:spPr>
          <a:xfrm>
            <a:off x="324000" y="1124640"/>
            <a:ext cx="865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四人一组填写表硌，让学生记录本组同学的档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6250"/>
          <p:cNvSpPr/>
          <p:nvPr/>
        </p:nvSpPr>
        <p:spPr>
          <a:xfrm>
            <a:off x="611280" y="2492280"/>
            <a:ext cx="8103960" cy="37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 birthday is …        I’m … years 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 telephone number i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 type of blood is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like … (food / color / num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 mother’s birthday i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 father’s birthday i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6252"/>
          <p:cNvSpPr/>
          <p:nvPr/>
        </p:nvSpPr>
        <p:spPr>
          <a:xfrm>
            <a:off x="755640" y="170028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用到的句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42920" y="476280"/>
          <a:ext cx="8929800" cy="6086520"/>
        </p:xfrm>
        <a:graphic>
          <a:graphicData uri="http://schemas.openxmlformats.org/drawingml/2006/table">
            <a:tbl>
              <a:tblPr/>
              <a:tblGrid>
                <a:gridCol w="3205080"/>
                <a:gridCol w="1584360"/>
                <a:gridCol w="1461960"/>
                <a:gridCol w="1460520"/>
                <a:gridCol w="1217880"/>
              </a:tblGrid>
              <a:tr h="553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st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554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st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552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rth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552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554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lephone num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552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e of  bl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554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vourite f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552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vourite colo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552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vourite nu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554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he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birth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552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the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birth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78851"/>
          <p:cNvSpPr/>
          <p:nvPr/>
        </p:nvSpPr>
        <p:spPr>
          <a:xfrm>
            <a:off x="539640" y="549360"/>
            <a:ext cx="8137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推选一名代表上台把本组认为写得最有意思的念出来，但不许说出该同学的姓名，让全班同学来猜他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她是谁？所用到的句子结构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8852"/>
          <p:cNvSpPr/>
          <p:nvPr/>
        </p:nvSpPr>
        <p:spPr>
          <a:xfrm>
            <a:off x="1476360" y="2276640"/>
            <a:ext cx="669600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is / Her telephone number is …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/ She is … years 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is / Her birthday i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is / Her type of blood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/ She likes … (numbers / foo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is / Her mother’s birthday i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o’s she /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未标题-1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643720" y="4097160"/>
            <a:ext cx="3071520" cy="22892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"/>
          <p:cNvSpPr/>
          <p:nvPr/>
        </p:nvSpPr>
        <p:spPr>
          <a:xfrm>
            <a:off x="324000" y="620640"/>
            <a:ext cx="78483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看图填空，完成下列对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llo! My _____  is Colin Zha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  your name, pleas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: My name is Jennifer. Nice to ______  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: Me, too. _______ is your birthda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: 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:___________ you bor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: I was born ______ 199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: OK, so you are twenty _____ 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: Yes, that's 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916360" y="1052640"/>
            <a:ext cx="1296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971640" y="1484280"/>
            <a:ext cx="1511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What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012000" y="1989000"/>
            <a:ext cx="14396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m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2484360" y="2781360"/>
            <a:ext cx="122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W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900000" y="3284640"/>
            <a:ext cx="5184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My birthday is on June 7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900000" y="3716280"/>
            <a:ext cx="2160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When w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276720" y="4149720"/>
            <a:ext cx="1152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4788000" y="4581360"/>
            <a:ext cx="1296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9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50920" y="836640"/>
            <a:ext cx="864072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将下列单词连成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ears, 14 , she's  old  (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irthday, when, San's, is, (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、改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 )1.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He'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good frien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i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Lolin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Smit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.  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       B               C          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 )2.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M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grandfather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v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brothe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. 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                        B     C  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332000" y="1989000"/>
            <a:ext cx="4824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She’s 14 years 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258920" y="3141720"/>
            <a:ext cx="54626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When is San’s birth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468360" y="4005360"/>
            <a:ext cx="3985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68360" y="4724280"/>
            <a:ext cx="3985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7308720" y="3933720"/>
            <a:ext cx="1224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7308720" y="4797360"/>
            <a:ext cx="1224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3"/>
          <p:cNvSpPr txBox="1"/>
          <p:nvPr/>
        </p:nvSpPr>
        <p:spPr>
          <a:xfrm>
            <a:off x="1928880" y="785880"/>
            <a:ext cx="6119640" cy="981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7c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Homework </a:t>
            </a:r>
            <a:endParaRPr b="0" lang="en-US" sz="1800" spc="1" strike="noStrike">
              <a:ln w="12600">
                <a:solidFill>
                  <a:srgbClr val="ff7c8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258920" y="2349360"/>
            <a:ext cx="6912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ish the exercises in Part 2 and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ew and recite 2e on P4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a card like th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3419640" y="4221000"/>
            <a:ext cx="5029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3500280" y="4365720"/>
            <a:ext cx="4724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Name: John Mill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Date of Birth: March 21</a:t>
            </a:r>
            <a:r>
              <a:rPr b="1" lang="en-US" sz="3200" spc="-1" strike="noStrike" baseline="30000">
                <a:solidFill>
                  <a:srgbClr val="ff00ff"/>
                </a:solidFill>
                <a:latin typeface="Times New Roman"/>
              </a:rPr>
              <a:t>st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Age: 1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1332000" y="83664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When is Mario Balotelli’s birth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1403280" y="14130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How old is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4000680" y="3071880"/>
            <a:ext cx="455292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: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ario Balotel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 of birth:  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August 12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: 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11280" y="2781360"/>
            <a:ext cx="30970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3708360" y="3213000"/>
            <a:ext cx="4884840" cy="23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me: </a:t>
            </a:r>
            <a:r>
              <a:rPr b="1" lang="en-US" sz="3200" spc="-1" strike="noStrike">
                <a:solidFill>
                  <a:srgbClr val="99cc00"/>
                </a:solidFill>
                <a:latin typeface="Times New Roman"/>
              </a:rPr>
              <a:t>Yu 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e of birth: </a:t>
            </a:r>
            <a:r>
              <a:rPr b="1" lang="en-US" sz="3200" spc="-1" strike="noStrike">
                <a:solidFill>
                  <a:srgbClr val="99cc00"/>
                </a:solidFill>
                <a:latin typeface="Times New Roman"/>
              </a:rPr>
              <a:t>July 28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e: </a:t>
            </a:r>
            <a:r>
              <a:rPr b="1" lang="en-US" sz="3200" spc="-1" strike="noStrike">
                <a:solidFill>
                  <a:srgbClr val="99cc00"/>
                </a:solidFill>
                <a:latin typeface="Times New Roman"/>
              </a:rPr>
              <a:t>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782640" y="642960"/>
            <a:ext cx="515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imes New Roman"/>
                <a:ea typeface="方正舒体"/>
              </a:rPr>
              <a:t>When is Yu Dan’s birth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898560" y="1268280"/>
            <a:ext cx="288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imes New Roman"/>
              </a:rPr>
              <a:t>How old is s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042920" y="3068640"/>
            <a:ext cx="21909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495000" y="571680"/>
            <a:ext cx="68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When is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tephen Hawking’s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birth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995640" y="3284640"/>
            <a:ext cx="4897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me: Stephen Hawking Date of birth: </a:t>
            </a:r>
            <a:r>
              <a:rPr b="1" lang="en-US" sz="3200" spc="-1" strike="noStrike">
                <a:solidFill>
                  <a:srgbClr val="99cc00"/>
                </a:solidFill>
                <a:latin typeface="Times New Roman"/>
              </a:rPr>
              <a:t>January 8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e: 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682560" y="1268280"/>
            <a:ext cx="28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old is 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58920" y="2565360"/>
            <a:ext cx="25542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496800" y="571680"/>
            <a:ext cx="549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  <a:ea typeface="方正舒体"/>
              </a:rPr>
              <a:t>When is Bai Baihe’s birth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682560" y="1268280"/>
            <a:ext cx="29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imes New Roman"/>
              </a:rPr>
              <a:t>How old is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851280" y="3068640"/>
            <a:ext cx="5076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ame: 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Bai Bai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ate of birth: 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March 1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ge: 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95280" y="2924280"/>
            <a:ext cx="3240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55640" y="189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Black"/>
              </a:rPr>
              <a:t>3a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tch the questions and answ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50920" y="907920"/>
          <a:ext cx="8496360" cy="5486400"/>
        </p:xfrm>
        <a:graphic>
          <a:graphicData uri="http://schemas.openxmlformats.org/drawingml/2006/table">
            <a:tbl>
              <a:tblPr/>
              <a:tblGrid>
                <a:gridCol w="4248000"/>
                <a:gridCol w="4248360"/>
              </a:tblGrid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s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sw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When is Jenny’s birthday? 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. No, it’s on the 6th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When are their birthdays? 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. Her birthday is on May 24th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When is your brother’s birthday?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. Yes, it i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Is his birthday in July? _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Their birthdays are in Januar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Is your birthday on February 1st?_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. It’s on June 16th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1979640" y="191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50920" y="285264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8000" y="378936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486900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80536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42920" y="40464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Black"/>
              </a:rPr>
              <a:t>3b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lete the conversation and practice it with your partn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1700280"/>
            <a:ext cx="76327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: How _______ are you, Gr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: ________ twe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: And ______ is your birth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: My ________ is on March 12th. How about you and T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: Well, my birthday is  _____ July 5th, and Tom’s birthday is ____ Dece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40000" y="162864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19280" y="234936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I’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16360" y="558972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79640" y="378936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birth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48360" y="508464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24000" y="306864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w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1474560" y="1989000"/>
            <a:ext cx="39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en is … birth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4"/>
          <p:cNvSpPr txBox="1"/>
          <p:nvPr/>
        </p:nvSpPr>
        <p:spPr>
          <a:xfrm>
            <a:off x="2268360" y="476280"/>
            <a:ext cx="4826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80008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 Sans MS"/>
              </a:rPr>
              <a:t>Ask and answer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80008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26920" y="472428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t’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755640" y="407664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rthday i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523880" y="29242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ow old 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3995640" y="4581360"/>
            <a:ext cx="46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It’s January the secon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3995640" y="4076640"/>
            <a:ext cx="32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January secon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324000" y="1052640"/>
            <a:ext cx="842940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95280" y="54936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1908000" y="1125360"/>
            <a:ext cx="0" cy="345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 flipV="1">
            <a:off x="324000" y="2565000"/>
            <a:ext cx="8351640" cy="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500040" y="121428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"/>
          <p:cNvSpPr/>
          <p:nvPr/>
        </p:nvSpPr>
        <p:spPr>
          <a:xfrm>
            <a:off x="324000" y="1916280"/>
            <a:ext cx="8351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3851280" y="1197000"/>
            <a:ext cx="261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irth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2357280" y="1928880"/>
            <a:ext cx="14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4500720" y="1928880"/>
            <a:ext cx="14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 flipH="1">
            <a:off x="3995280" y="1905120"/>
            <a:ext cx="42840" cy="2676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324000" y="3213000"/>
            <a:ext cx="831996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 flipV="1">
            <a:off x="324000" y="3789360"/>
            <a:ext cx="8424720" cy="7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611280" y="40464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ke a surve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468360" y="4869000"/>
            <a:ext cx="8496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port like this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바탕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바탕"/>
              </a:rPr>
              <a:t>Cindy’s birthday is on February 9th. She is 15.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0"/>
          <p:cNvSpPr/>
          <p:nvPr/>
        </p:nvSpPr>
        <p:spPr>
          <a:xfrm>
            <a:off x="5940360" y="1916280"/>
            <a:ext cx="0" cy="2665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1"/>
          <p:cNvSpPr/>
          <p:nvPr/>
        </p:nvSpPr>
        <p:spPr>
          <a:xfrm>
            <a:off x="6286680" y="1928880"/>
            <a:ext cx="87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6-01-18T00:05:03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